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151-C304-4598-8F4F-B32D2D8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2FC-CDA2-4819-833E-7AC8E485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BC4-3974-4020-B8D8-BBCCAFF9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0D5-0B7A-483A-BDA1-68147EC3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59E-24ED-4C1D-8099-5A9D0DF2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6C4-2085-4721-BC51-5A6A8DC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A6E-8280-4A93-8E3A-224EA30D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E1B-8BE9-49F3-B8E5-CFE85CC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721-253F-4C1E-97B4-A09867A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235-D651-4D44-8820-B4F6391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3B7-FEBE-4085-ACD1-68C9AB0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065-47B2-41B6-BC16-8D9C0A7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AE2-82D6-453F-85FB-6BE642666FF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6:53:31Z</dcterms:created>
  <dc:creator>Grupo Editorial</dc:creator>
  <dc:description/>
  <dc:language>en-US</dc:language>
  <cp:lastModifiedBy>TORRES</cp:lastModifiedBy>
  <dcterms:modified xsi:type="dcterms:W3CDTF">2010-12-19T21:43:50Z</dcterms:modified>
  <cp:revision>1</cp:revision>
  <dc:subject/>
  <dc:title>Sin título de diapositiva</dc:title>
</cp:coreProperties>
</file>